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DF4-B3B5-4EF9-BB84-D8E25FB1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60B-B947-4D5C-A4CC-A1B61B79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B02-5A69-4EBB-B4E9-E145BDB5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752-D2DE-422B-83D5-3F6B0C99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D21-1408-4DB0-934A-5955902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A21-12E2-4E31-886F-EBE187D5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EC9-1C48-4277-A014-CC02B375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C8E-87AA-4BB9-9032-CEC446DC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BAB-0909-4A19-909B-9CE41359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DB0-1F13-41C4-9C75-0B5C440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7A4-5A78-4996-8E68-412C3AB0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CF9-3105-442C-8663-DC57432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F494-81C0-436B-8B32-20D89B899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Sweet It Is(n’t) Tabletop Exercise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8:57Z</dcterms:modified>
  <cp:revision>29</cp:revision>
  <dc:subject/>
  <dc:title>Certificate Samples</dc:title>
</cp:coreProperties>
</file>