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D65F-9818-4B17-A349-C0BDCE64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06BD-214A-4E23-B1B4-D5159B7D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6056-AD1B-4B3E-BC90-93DE71ED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ADC9-0D54-4F56-BBE3-175E9F385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F441-DCEE-4744-BAB5-4AD66A73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451C-5F7A-4ED7-94CB-4715366A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68D0-AD3B-4D91-94D1-7D695BA5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34A-1469-46E7-9329-D06082E1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8DB8-C050-49F7-846F-3617763B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CDCA-FE89-42AE-9924-75D3E66E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B16C-4D8D-480A-A8E9-57423557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5F69-5A55-49DA-B0AE-940A382E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B4BC-A6C1-40E7-A290-F6D7DF3DB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 recognition of attendance at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ow Sweet It Is(n’t) Tabletop Exercise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s certificate is presented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esented by:  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ate:  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8920" y="130320"/>
            <a:ext cx="8953560" cy="6715080"/>
          </a:xfrm>
          <a:prstGeom prst="rect">
            <a:avLst/>
          </a:prstGeom>
          <a:noFill/>
          <a:ln cap="sq" w="254160">
            <a:solidFill>
              <a:srgbClr val="5a85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4960" y="503280"/>
            <a:ext cx="8061480" cy="5968800"/>
          </a:xfrm>
          <a:prstGeom prst="rect">
            <a:avLst/>
          </a:prstGeom>
          <a:noFill/>
          <a:ln cap="sq" w="127080">
            <a:solidFill>
              <a:srgbClr val="73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Up Ribbon 6"/>
          <p:cNvSpPr/>
          <p:nvPr/>
        </p:nvSpPr>
        <p:spPr>
          <a:xfrm>
            <a:off x="685800" y="5486400"/>
            <a:ext cx="7772400" cy="762120"/>
          </a:xfrm>
          <a:custGeom>
            <a:avLst/>
            <a:gdLst>
              <a:gd name="textAreaLeft" fmla="*/ 1942920 w 7772400"/>
              <a:gd name="textAreaRight" fmla="*/ 5829480 w 7772400"/>
              <a:gd name="textAreaTop" fmla="*/ 0 h 762120"/>
              <a:gd name="textAreaBottom" fmla="*/ 635400 h 7621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2:20:56Z</dcterms:created>
  <dc:creator>JoaBenn</dc:creator>
  <dc:description/>
  <dc:language>en-US</dc:language>
  <cp:lastModifiedBy>Cathy.Ghaleb</cp:lastModifiedBy>
  <dcterms:modified xsi:type="dcterms:W3CDTF">2011-06-21T15:28:57Z</dcterms:modified>
  <cp:revision>29</cp:revision>
  <dc:subject/>
  <dc:title>Certificate Samples</dc:title>
</cp:coreProperties>
</file>