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4EA-BFAC-422B-93ED-8967D7B7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CDD-3BA4-4BA7-B697-8214C1A0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7AE-E7BE-4076-8BC5-FED69979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E55-3059-4D17-953D-8B4556CE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CC9-218F-4FC3-895B-9A57B6A1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0EA-AF35-4DC6-9198-328F3013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D11-DA9A-421D-B973-FBE3D8E1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0F2-44C5-4908-9CA9-761AEBD3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144-9A04-41CF-832A-FD66944A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45B-E6F0-416D-B696-276850C1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E1A-54DF-4E54-A955-879D190F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521-FA6D-4AC8-A538-A756E0FB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E4F5-F1B5-4C05-ABCD-DBBA52660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ealthy Situation Tabletop Exercis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30:53Z</dcterms:modified>
  <cp:revision>29</cp:revision>
  <dc:subject/>
  <dc:title>Certificate Samples</dc:title>
</cp:coreProperties>
</file>