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9CD-5EC4-42C2-8AD2-EA217991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76D-689B-449A-8011-E95D5FEB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415-75AC-4CF8-A27B-61554B4C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8F2-B317-497A-A4BD-5E6060DF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534-3ABE-4932-A412-6C2B9B58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989-84D6-40A2-8BFC-CA9CCD00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88B-91CA-4073-BC4F-5BC5012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F50-3120-49AE-A817-6EA52FCC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3F5-BBDA-448F-A976-0CA400AB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0B4-C3C5-4CCC-AA2A-4281E64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EBD-21C9-4AB8-9041-5C21426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572-FA25-4310-9A15-78E35A20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0A35-2A3D-4D71-88F7-B41F40AB9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althy Situation Tabletop Exercis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0:53Z</dcterms:modified>
  <cp:revision>29</cp:revision>
  <dc:subject/>
  <dc:title>Certificate Samples</dc:title>
</cp:coreProperties>
</file>