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F8C-5A5E-4B02-84AE-EC4BAF2A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816-D100-49F1-9E7E-6346B128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D2D-7079-4B32-8F56-6A8FDAC0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269-16D2-4770-B21B-81DA2F6F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DFE-0FD7-4BBD-A785-0584ADC4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939-AF7D-4A25-919F-BFC7EC0D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2FF-F313-46F7-A86A-552A3371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AE1-25FE-447B-85B7-6938237E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40F-4316-4FE2-B159-7F8465EE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E67-3315-4721-BBAA-1148EF5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E0A-0847-4548-BEEA-A1335BBF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08D-4C3E-455E-82F7-164D66A3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649E-B0FB-4DDD-BCB2-A243DFF08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althy Situation Tabletop Exercis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0:53Z</dcterms:modified>
  <cp:revision>29</cp:revision>
  <dc:subject/>
  <dc:title>Certificate Samples</dc:title>
</cp:coreProperties>
</file>