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CE7-A22E-45F2-87DF-941739FF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E2B-F597-4A03-A78D-2AA578BD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86F-F5A5-4FAE-A5D8-BC2E6F97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A82-786A-4973-A51C-91C1CD39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C1E-3B2B-47F0-9CAE-209EB542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D4A-6012-427A-B3AB-135A4810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1D0-999A-4B09-9C27-76F01D44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1FF-9316-4A2C-A33A-6096AE83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A52-AA1F-45EE-AD95-39BED6D1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570-C6BF-49F4-92F1-A3CA147B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B20-6D4D-42DA-819A-A35B9547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027-A87F-44EE-8D15-A0702E2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19F4-948D-4871-A74D-153AA0D43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ted Woes Tabletop Exercise</a:t>
            </a:r>
            <a:br>
              <a:rPr sz="14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32:00Z</dcterms:modified>
  <cp:revision>30</cp:revision>
  <dc:subject/>
  <dc:title>Certificate Samples</dc:title>
</cp:coreProperties>
</file>