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0890-8429-4BFF-B679-F5286C99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7056-BCD6-4BB3-9FE9-F7582A79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9624-B108-4186-A63C-569234AE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52EE-0078-40A8-A073-E1FCE0A9E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43F9-425F-445A-BDEF-21DEFFD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72D-A564-42F2-87B3-C7F4591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275D-7A87-406F-A6D2-7FBF175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BB5A-9109-49FF-8039-C3771CF0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ABCA-96DB-477D-8E30-0B1F0887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1D42-0EE1-483D-83FB-5B06FEFED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CE28-FEFC-4BC9-8B7D-BAD1E8D5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85AB-320D-454B-B93D-20A8E148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7F5-ED86-4372-85C7-C7D4FFC4B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n recognition of attendance at t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ilted Woes Tabletop Exercise</a:t>
            </a:r>
            <a:br>
              <a:rPr sz="14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is certificate is presented to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Presented by:  ______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Date:  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88920" y="130320"/>
            <a:ext cx="8953560" cy="6715080"/>
          </a:xfrm>
          <a:prstGeom prst="rect">
            <a:avLst/>
          </a:prstGeom>
          <a:noFill/>
          <a:ln cap="sq" w="254160">
            <a:solidFill>
              <a:srgbClr val="5a85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534960" y="503280"/>
            <a:ext cx="8061480" cy="5968800"/>
          </a:xfrm>
          <a:prstGeom prst="rect">
            <a:avLst/>
          </a:prstGeom>
          <a:noFill/>
          <a:ln cap="sq" w="127080">
            <a:solidFill>
              <a:srgbClr val="739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Up Ribbon 6"/>
          <p:cNvSpPr/>
          <p:nvPr/>
        </p:nvSpPr>
        <p:spPr>
          <a:xfrm>
            <a:off x="685800" y="5486400"/>
            <a:ext cx="7772400" cy="762120"/>
          </a:xfrm>
          <a:custGeom>
            <a:avLst/>
            <a:gdLst>
              <a:gd name="textAreaLeft" fmla="*/ 1942920 w 7772400"/>
              <a:gd name="textAreaRight" fmla="*/ 5829480 w 7772400"/>
              <a:gd name="textAreaTop" fmla="*/ 0 h 762120"/>
              <a:gd name="textAreaBottom" fmla="*/ 635400 h 7621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7T22:20:56Z</dcterms:created>
  <dc:creator>JoaBenn</dc:creator>
  <dc:description/>
  <dc:language>en-US</dc:language>
  <cp:lastModifiedBy>Cathy.Ghaleb</cp:lastModifiedBy>
  <dcterms:modified xsi:type="dcterms:W3CDTF">2011-06-21T15:32:00Z</dcterms:modified>
  <cp:revision>30</cp:revision>
  <dc:subject/>
  <dc:title>Certificate Samples</dc:title>
</cp:coreProperties>
</file>