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C45-698D-4CE9-83B5-FCD39C62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1BC-E05B-478F-9D3E-FB07C866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08C-55EE-4C3C-9D06-13699001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B86-A698-469F-88A3-6CB3CFBC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19F-AD61-478E-AE31-95D6943E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AFC-9B03-4C97-B750-7E95352A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23F-F7A2-4B4B-BA03-8E8E7F0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22C-D3F6-453E-932D-D1B1D32D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03A-20DB-41C7-A8D7-A8344192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3E5-2656-4D5A-BB0E-39E5A09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C83-2F68-47CA-9DFC-B908A88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921-FF61-4E03-9480-7C5434D4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AB69-D5BE-46D3-9EA9-B77EEEA30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ighplains Harbinger Tabletop Exercis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5:08Z</dcterms:modified>
  <cp:revision>30</cp:revision>
  <dc:subject/>
  <dc:title>Certificate Samples</dc:title>
</cp:coreProperties>
</file>