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511-1588-4CD8-ACF8-5139EED8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C62-63F6-46F4-BF23-E5CBAD35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C421-7ED6-454F-B713-75F37CC9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1E1-851C-4CF3-BCFB-7B89723F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60C-2B18-44FA-A6B4-79824170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09D-86CA-4AC5-85B5-98FAB866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357-C432-4E15-A656-B423D59B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9F6-C119-4A35-A554-E20B0F76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062D-A320-4430-AB97-06FB3D10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512-A08D-4DCE-8E54-49795884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17C-6831-4C47-8EAB-CD001ABE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F71-D848-446D-9A23-17825093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EFD1-15DB-40E9-A456-D3A1F11C5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ider Addition Tabletop Exercise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27:35Z</dcterms:modified>
  <cp:revision>30</cp:revision>
  <dc:subject/>
  <dc:title>Certificate Samples</dc:title>
</cp:coreProperties>
</file>