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7604-C26F-4D2B-818B-312BAEB51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4A73-7E61-405D-BE4F-D80C4B8C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24E9-1479-4C2A-BA60-B36CBBAF3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8B2C-CD67-4EF0-AE38-D4354F0D4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7198-D509-4672-B4E8-AD818914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24C0-B35E-42CE-A799-ACBEB0F7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6764-C2B4-4713-B848-1F90D43A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85C2-102A-444B-A4EF-60139E0C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72DD-E606-4F16-ACDC-702677FB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3F57-3564-4F65-BEDC-F75F7427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5C15-E8B3-4648-857F-250A30B8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8D4E-E43F-4AFC-B53C-4E0B08A1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AA62-09B5-4998-9B6A-B4F97FDE0D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 recognition of attendance at th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sider Addition Tabletop Exercise</a:t>
            </a:r>
            <a:br>
              <a:rPr sz="24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is certificate is presented 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resented by:  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ate:  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88920" y="130320"/>
            <a:ext cx="8953560" cy="6715080"/>
          </a:xfrm>
          <a:prstGeom prst="rect">
            <a:avLst/>
          </a:prstGeom>
          <a:noFill/>
          <a:ln cap="sq" w="254160">
            <a:solidFill>
              <a:srgbClr val="5a85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534960" y="503280"/>
            <a:ext cx="8061480" cy="5968800"/>
          </a:xfrm>
          <a:prstGeom prst="rect">
            <a:avLst/>
          </a:prstGeom>
          <a:noFill/>
          <a:ln cap="sq" w="127080">
            <a:solidFill>
              <a:srgbClr val="739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Up Ribbon 6"/>
          <p:cNvSpPr/>
          <p:nvPr/>
        </p:nvSpPr>
        <p:spPr>
          <a:xfrm>
            <a:off x="685800" y="5486400"/>
            <a:ext cx="7772400" cy="762120"/>
          </a:xfrm>
          <a:custGeom>
            <a:avLst/>
            <a:gdLst>
              <a:gd name="textAreaLeft" fmla="*/ 1942920 w 7772400"/>
              <a:gd name="textAreaRight" fmla="*/ 5829480 w 7772400"/>
              <a:gd name="textAreaTop" fmla="*/ 0 h 762120"/>
              <a:gd name="textAreaBottom" fmla="*/ 635400 h 76212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22:20:56Z</dcterms:created>
  <dc:creator>JoaBenn</dc:creator>
  <dc:description/>
  <dc:language>en-US</dc:language>
  <cp:lastModifiedBy>Cathy.Ghaleb</cp:lastModifiedBy>
  <dcterms:modified xsi:type="dcterms:W3CDTF">2011-06-21T15:27:35Z</dcterms:modified>
  <cp:revision>30</cp:revision>
  <dc:subject/>
  <dc:title>Certificate Samples</dc:title>
</cp:coreProperties>
</file>